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69D6D-98E6-4CBF-B2C6-718643D09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E5C3-C3E9-44D6-B81E-2F338455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0DFC8-0F71-42B9-ADF1-97B2A990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F370B-0580-4013-B46C-7DF303DC5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9CBE-92C6-4051-98C7-F5BAF11B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6493-D612-4527-96B7-F0FBD316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460E-40DB-40F3-A16E-201913A0D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B8F5-EFEE-4FD4-B0DE-F1B53062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38C0-E334-44D2-B96F-A40619A62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B895-5E67-4711-B2A4-4FF516F3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14F1-DB58-4C02-AD83-DA9734FC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3C23-C417-4EB4-B598-7C697AEA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EB14-F37D-4F0B-8A06-B10152A0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D777D-EB9F-4B66-91C6-3BEDCACA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A762-5DA2-4F28-AA75-8FCFF111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258A-5249-4051-8EAB-24272CDA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8F6D1-1C02-4884-AFD6-6807F915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72A4-DA1F-4EB1-9F3C-5458197A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A4A46-0021-4254-B498-7EBD0038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7889-BF1A-4428-B162-60797559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09F42-ECEF-4162-892D-45F76708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B41A-921A-4C23-A2B5-F9B257FB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C46E8-18AC-49E7-B203-0913DB58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502EC-774C-46B3-88D0-C77C044C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814A-D912-4240-AFB4-15E8A27B4CC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9833-9560-4E88-9D1B-CA8FF6BBDAE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8560" y="4797360"/>
            <a:ext cx="7677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Цифровые процессоры</a:t>
            </a:r>
            <a:br>
              <a:rPr sz="3000"/>
            </a:b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обработки сигналов фирмы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правляет конвейерной обработкой команд, аппаратной организацией цикл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обращением к подпрограммам и обслуживанием прерыва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енератор адрес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декодирования команд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лер прерывани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мещаю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начального адреса цикл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четчик циклов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состояния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режима обработк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ный сте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 указателя стека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P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6120" indent="164880">
              <a:lnSpc>
                <a:spcPct val="13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ный сте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азового семейства процессо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ъемом 3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ддерживает до 7 цикл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ли 15 прерываний, или 15 вложенных под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A/IR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 программного прерыва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ет четыре вывод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A/IRQA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B/IRQ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установки режимов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приема маскируемых запросов на прерывание (управляющих сигналов)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C/NM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ется для установки режима обработки 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приема немаскируемых запросов на прерывание от внешних аппаратных источни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обработк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формируют конфигурацию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, Y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а также определяют процедуру запуска процессора после его выхода из состояния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T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уется для установки процессора в начальное состояние, называемое состоянием сбро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енератор тактовых импульсов(ГТИ) с фазовой автоподстройкой частоты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автоподстройкой частоты (ФАПЧ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позволяет формировать тактовые импульсы высокой частоты внутри процессора при низкочастотном внешнем задающем генераторе. Границы диапазона тактовых частот регулируются от минимальной (обычно 10МГц) до максимальной, которая зависит от возможностей внешнего генератора и коэффициента умножения, устанавливаемого программно. В состоянии останова процессора генераторное оборудование остается активным, хотя ГТИ запирается, поэтому процессор переходит на минимально возможное потребление мощ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9152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меют три пор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ивающий разносторонний интерфейс с внешней памятью и внешней периферией как быстродействующей, так и низкоскоростной. Порт содержит внешнюю адресную 16-разрядную шину, внешнюю 24-разрядную шину данных и шину управления пор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управления обеспечивает управление чтением/записью по шине данных, выбор адресного пространства памяти и управление магистральной шиной при организации  многопроцессорной системы; обмен данными осуществляется в параллельном форма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терфей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(последовательного обмена данным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рт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тносятся к внутрикристальной периферии; способы их использования определяются специальными регистрами данных и состояния, размещенными во внутрикристальн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ет использоваться либо как порт ввода/вывода общего назначения, либо ка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интерфейс. Второй вариант применяется в том случае, когда процессор входит в состав некоторой системы ЦОС и есть необходимость взаимодействия с ведущим процессором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ом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мен данными осуществляется по 8-разрядной шине в последовательно-параллельном формате: 24-разрядные данные делятся на три байта, которые передаются в параллельном формате последовательно друг за друг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3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едставляет собой последовательный интерфейс, предназначенный для дуплексного асинхронного и синхронного обменов данными с внешней периферией. Направление передачи данных на выводах пор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яется программно. Прием/передача данных осуществляется последовательно, начиная с младшего (0-го) или старшего (23-го) бита 24-разрядного слова, которое, в свою очередь, передается побайтно. Формат асинхронного слова, кроме байта данных, содержит дополнительные служебные биты и поэтому может быть 10- или 11-разрядны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является аппаратным элементом системы отладки и работает под управлением ведущего компьютера, на который инсталлируют программные средства отладки. Эмулятор обеспечивает быстрый и независимый доступ к внутренним регистрам и периферии процессора для проверки их состояния. Связь между эмулятором и компьютером осуществляется с помощью специального устройства – внешнего контроллер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 контроллер и программные средства отладки поставляются фирмой-производителем процес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1120" y="1773360"/>
            <a:ext cx="8642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общенная структур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DSP56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932360" y="1125360"/>
            <a:ext cx="381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ор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 кристалле функционально можно выделить две ча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бласть расши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модуль обработки является основой любого процессор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56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его состав вход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4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ратор тактовых импульсо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фазовой автоподстройкой частоты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ФАПЧ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DSP56K"/>
          <p:cNvPicPr/>
          <p:nvPr/>
        </p:nvPicPr>
        <p:blipFill>
          <a:blip r:embed="rId1"/>
          <a:stretch/>
        </p:blipFill>
        <p:spPr>
          <a:xfrm>
            <a:off x="250920" y="1052640"/>
            <a:ext cx="4608360" cy="55450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318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403280" y="1773360"/>
            <a:ext cx="65278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ые компоненты архитек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на адре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G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тор тактовых импульсов (ГТИ) с фазовой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топодстройкой частоты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р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4859280" y="1125360"/>
            <a:ext cx="3889440" cy="55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бласти расширения размещаютс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 программ и периферийные модули. Организация памяти определяется конкретным типом процесс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состав центрального модуля входя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LU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ройство программного управлени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рты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,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– в зависимости от модифик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нутрикристальный эмулято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енератор тактовых импульсов ГТИ с фазовой автоподстройкой частот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ФАПЧ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DSP56000"/>
          <p:cNvPicPr/>
          <p:nvPr/>
        </p:nvPicPr>
        <p:blipFill>
          <a:blip r:embed="rId1"/>
          <a:stretch/>
        </p:blipFill>
        <p:spPr>
          <a:xfrm>
            <a:off x="395280" y="1341360"/>
            <a:ext cx="4568760" cy="53006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рхитектура процессоров базового семейст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SP56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4358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четыре двунаправленных 24-разрядных шины данных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шина программ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B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по которой передаются коман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шин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B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анных, обеспечивающая обмен данными с внутренней или внешней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через порт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ериферия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едназначены для передачи данных между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мятью, соответственно. При необходимости 24-разрядные шин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гут быть объединены в одну 48-разрядную ш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щая (24-разрядная) ши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DB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беспечивает обмен данными с внутрикристальной и внешней перифериями. Обмен данными с внешней периферией может осуществляться через внешнюю шину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араллельном формате, 8-разрядную шину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-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нтерфейса (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-параллельном формате и через пор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последовательном форма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дачу данных между шинами осуществляет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переключатель внутренних шин данных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Переключатель дополнительно содержит блок манипуляции битами, позволяющий управлять состоянием битов любого типа ячеек памяти данных и регист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анных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U, PC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ины 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адресов используются для адресации ячеек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две однонаправленные шины адресов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дн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двунаправленна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шина адреса програм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спользуются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-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, соответстве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назначена для адресаци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ация внешней памяти осуществляется через единственную однонаправленную шину, которая подключается 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AB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B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Выбором шины управляет переключатель внешней шины адреса – мультиплексор с тремя вход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адресации внешней памяти необходимо учитывать, что в одном командном цикле доступно только одно пространство внешней памяти. В этом случае командный цикл реализуется без дополнительной задержки. Обращение к внешним пространствам памяти контролирует устройство управления ши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8569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ых выполняет все арифметические и логические операции над операндами. 24-разрядные процессоры базового семейств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P560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ют в своем соста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етыре 24-разрядных входных регис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56-разрядных аккумулятора, каждый из которых содержит 48-разрядный регистр аккумулятора и 8-разрядный регистр расши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ва сдвигателя/ограничителя д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аллельное одноцикловое устройство умножения с накопл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ы расширения хранят целую часть результата. Ее максимальное значение по модулю равно 255. Возможен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ежим насыщ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гласно которому, если 48-разрядный результат операции оказывается больше максимально допустимого (при переполнении) либо меньше минимального допустимого (при потере значимости), в процессоре автоматически устанавливается соответствующая амплитуда насыщ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ные регистры могут объединяться в пары, удваивая таким образом разрядность обрабатываемых данн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ройство генерации адре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ыполняет все операции, связанные с определением и хранением адресов в режиме косвенной адресации. Это устройство работает независимо от остальных блоков процессора. Формирование адреса происходит параллельно с другими операциями процессора. Процессоры фир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бладают чрезвычайно мощной системой адресации, позволяющей производить манипуляции с данными за один командный цик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168480">
              <a:lnSpc>
                <a:spcPct val="15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оста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U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ходят два одинаковых арифметических блока, формирующие два 16-разрядных адреса в каждом командном цикле. При формировании адреса могут использоваться три типа арифметики: линейная, модульная и бит-реверсив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82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7:13Z</dcterms:modified>
  <cp:revision>9</cp:revision>
  <dc:subject/>
  <dc:title>Микропроцессорные системы</dc:title>
</cp:coreProperties>
</file>